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295A-D353-4B09-9960-51DFB5AA2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AA19-602A-4824-9FB8-0AA14C0A1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FC76-CDCB-4ED1-9AFC-6777D3D37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3CE4-16B0-4AB5-8DBD-EAB8330DA8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EF58-89A9-404B-B781-2923FAFDC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7613-DA41-4089-AD03-30F98ED1D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7F07-90F2-4A6A-8448-6F957E246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2A6B-E96B-4B58-AC81-A5F332E8B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37C0-14E5-461D-98F3-39A08CD14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7D3B-2247-4BE8-BB0E-047B182FD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63DF-0759-4586-9D2A-358440579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F3C0-8A0B-49D2-AA60-2DB7C09A4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1728-6220-4E9B-B93F-5CA3CB4A57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819D-47FF-4AAF-B9E3-EC24B9AFF9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4EA4-F37E-4569-9E3D-85C6EECA15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l_fi" descr="http://www.lancsngfl.ac.uk/secondary/math/images/library/Picture42Primet.png"/>
          <p:cNvPicPr/>
          <p:nvPr/>
        </p:nvPicPr>
        <p:blipFill>
          <a:blip r:embed="rId1"/>
          <a:srcRect l="8233" t="0" r="8428" b="11763"/>
          <a:stretch/>
        </p:blipFill>
        <p:spPr>
          <a:xfrm>
            <a:off x="1143000" y="5335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472E-D928-40E0-8AFB-E63F0C097A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6" descr="http://gains-camppp.wikispaces.com/file/view/MathLearningWall.jpeg/310677630/MathLearningWall.jpeg"/>
          <p:cNvPicPr/>
          <p:nvPr/>
        </p:nvPicPr>
        <p:blipFill>
          <a:blip r:embed="rId1"/>
          <a:stretch/>
        </p:blipFill>
        <p:spPr>
          <a:xfrm>
            <a:off x="1600200" y="685800"/>
            <a:ext cx="6019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1E5A-2735-4C8F-A0FA-26B28E4D72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990720" y="528480"/>
          <a:ext cx="718020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28480"/>
                    <a:ext cx="71802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s of 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Electronic Learning Wall Using Pre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E0B5-E414-4768-AC15-D670D068B6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3879-50C4-438A-AD68-6AEDCCC987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55600" y="1274760"/>
            <a:ext cx="8626320" cy="4119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ezi.com/learn/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lectronic 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Teacher Rob uses Evernote for Student 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I insert link to video called Evernote (not the video called The New Evernot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3B49-538D-44F3-8DEB-6BD1247694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vernote for Schoo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AE84-E1BD-4BFF-9261-20F683106A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907920" y="1139760"/>
            <a:ext cx="740736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 and Buil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unit from a course and plan an outline for a learning wall or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work on paper, or explore Prezi or Ever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ould also explore epractice, www.101.qs.com, or a selection of video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55ED-3FCA-441C-8C8E-A490294073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the idea of assessment of learning as being more a process then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use this idea in your classroom next y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17E1-1897-4E12-A6B1-DB772092F2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ssessment of learning (summative assessment) as a continuous iterative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learning walls and portfolios and their connection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learning walls and portfolio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193B-BDEF-469D-8FBF-FD039B3EFC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BA75-515C-473C-8047-D01974106A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 encore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8C10-7125-4133-ABA7-6B2C5B8F62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plenary session, Chris made the statement:  “Summative assessment – a process, not an ev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1D9E-D98B-47FE-A473-26F24DEFAC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 In the plenary, Chris made the statement:  “Portfolio assessment is one example of what summative assessment might look lik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B responds first, then Lin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070A-7C3C-44AE-AE5A-BE68A66952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What might you include in a portfolio if you wanted to use portfolio assessment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DC39-8C03-43CA-BB0C-24380A59B0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und Robin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you used a learning wall, or any features of a learning wall, in your class?  What features did you inclu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 your learning wall effective? 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think are some key ingredients of a learning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6A1C-2D6E-4C88-8799-3ED6C627B8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EDBB-FFDC-419E-BA76-2E9D0A974A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5" descr="http://swiftclasstmhp.primaryblogger.co.uk/files/2011/09/DSCF3088.jpg"/>
          <p:cNvPicPr/>
          <p:nvPr/>
        </p:nvPicPr>
        <p:blipFill>
          <a:blip r:embed="rId1"/>
          <a:srcRect l="0" t="0" r="0" b="18755"/>
          <a:stretch/>
        </p:blipFill>
        <p:spPr>
          <a:xfrm>
            <a:off x="914400" y="5335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A368-7720-4B59-8B4B-336E7ACDBA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6" descr="http://swiftclasstmhp.primaryblogger.co.uk/files/2011/09/DSCF3089.jpg"/>
          <p:cNvPicPr/>
          <p:nvPr/>
        </p:nvPicPr>
        <p:blipFill>
          <a:blip r:embed="rId1"/>
          <a:srcRect l="4495" t="0" r="13484" b="0"/>
          <a:stretch/>
        </p:blipFill>
        <p:spPr>
          <a:xfrm>
            <a:off x="1752480" y="380880"/>
            <a:ext cx="53341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16T19:17:27Z</dcterms:modified>
  <cp:revision>37</cp:revision>
  <dc:subject/>
  <dc:title>&lt;Title&gt;</dc:title>
</cp:coreProperties>
</file>